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FFF897-62D5-4F8F-BF6F-68ED4D7C2E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5C8207-77E3-41EE-80BE-4495732AD0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231995F-7490-4C52-8A76-3B3FCB3A2D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BDC0B92-D65D-4E0E-8839-026E6638D6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791C89-39E4-4E10-A503-AF900C491F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C0B820-E282-4BEB-A98E-B1C2EDF79D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766FEA-00FC-4595-A033-C6B2BE5673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8DDAB9D-95FC-4474-B386-446CD99A47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B8DD86-92BB-4321-9047-2F288D55B8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359EF1-948A-412F-8E05-4E040E5D9F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7A0B80-81EF-450F-88A5-2F010FE681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286C8A-7710-40E4-9556-267ABBB18A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ED1B-86EE-41D1-9482-0484D97D7A6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triangle" w="med"/>
            <a:tailEnd len="med" type="triangle"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arrow" w="med"/>
            <a:tailEnd len="med" type="arrow"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